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86C-3344-4F6B-90DF-B1CA140B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CC1-FB72-4A9F-9561-4BE604F8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ECB-4A65-44BB-A21C-6BFF38BF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49C-05FB-4A92-BDC4-0A71BF43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A07A-79F8-4113-8D3E-34D3D618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0C58-5BD6-4B42-9D82-28EE6E09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8B73-98B9-4E34-B497-942C64B7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FCDC-F911-403D-8579-5E4C7E03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790E-9C1C-4D98-8FD3-2D29D012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178F-6ED3-48CE-AF97-3E09013B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A475-85A4-4A1F-8A9E-D31F2B91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16C-66F7-420F-9510-6B717D71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4FC-A4B7-4040-9A51-8BE73BA4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5FB9-94A1-4D76-B4C0-BA84CDAA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1F54-F4B7-4CA8-9473-29EAEA94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07D5-BF4E-40B7-9B54-888D7E4C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B6B5-862A-469C-9355-49981D68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274F-F86D-43E6-842B-65E9B989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866E-5514-4D0C-8184-98F3782B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3363-656C-4F78-B610-D02AF841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662A-B687-4ED6-A133-C7F1CBB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0DA9-60CF-4CE7-8576-95C1CC03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D44-0E2A-47E7-A05D-183244EC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D0D2C-3D3A-4D52-9CE2-0EA16686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A425-9AA7-4393-AE8E-BBC38CA8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EF3D-3B90-4E8D-AA16-4407FEC4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EC21-85D1-4489-9ACF-6BCCBC74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DFA0-BD7C-4992-83E9-14F51A0E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BAD4-114B-4830-811B-C2CB69B3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C8F2-9209-4C9F-A541-7D6E4926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7E7A-30E7-4DE5-8D4D-598D18D7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0CF2-8AC1-4BB1-B23A-050796F2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D4A09-DDD9-43FD-A506-344DEABC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BB4-5071-421B-8F8B-3C9799B2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FBF0-1561-43B7-9526-C09F2269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1E00-39D8-436B-BF7B-6B0BC593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6777-F040-47FB-A2EA-B890434D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CA94-D1CA-42E9-A43F-109892C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382D-6ABE-46CF-88A9-EC5490B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2EDFD-7EBD-4BA4-9F45-386BB43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D30D-98F4-4F62-9FFC-66F218D2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357B8-F630-437D-9FB1-632681DD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7ED7-BA86-405C-A4E8-AA03D50C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8A0-18AA-4013-8C2C-0D592D6D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BA0-81F5-448A-9B5E-CA0643F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72F-D1C6-4554-9886-3F1A4079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F6A-9DAF-4A57-B1CB-357D0069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C17-2346-45EF-98CE-58029AC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833C-4062-48BC-A1EB-24D6423BC65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B31C-6BF6-4E48-A23D-18D12CC82B4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1A89-F461-4EE9-8ACA-8BE806328FF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2E76-E7E9-43DA-B048-F65DFCC50F5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dc9e1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692000" y="2421000"/>
            <a:ext cx="5722920" cy="19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 Narrow"/>
              </a:rPr>
              <a:t>САП ЛОШАДЕЙ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09480" y="1844280"/>
            <a:ext cx="792504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ка и меры борьбы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п неизлечим.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ля своевременного выявления болезни однокопытных животных один раз в год подвергают маллеинизации. Всех восприимчивых животных за 2 недели до передачи другим хозяйствам, отправки на выставки, спортивные состязания, перед убоем на мясо исследуют аллергическим методом. Вновь поступившее поголовье карантинируют и также подвергают маллеинизац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торическая справк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линические признаки сапа впервые описал Аристотель в IV в. до н. э. Культуру возбудителя получили Лёффлер и Шютц (1882).У человека он впервые обнаружен Н. П. Васильевым в 1883 году. Русские ученые X. И. Гельман и О. И. Кальнинг в 1891 г. приготовили маллеин, который применяется для аллергической диагностики сапа до настоящего времен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62160" y="549360"/>
            <a:ext cx="4647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Возбудитель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-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seudomonas mallei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— прямая или изогнутая, с закругленными концами, неподвижная бактерия, длиной 1—5 мкм, шириной 0,3 — 0,8 мкм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Культивирование –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бактерии сапа факультативные анаэробы. Оптимальная температура их роста 37 °С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райние границы 20 …42 °С. Они хорошо развиваются на обычных средах, но лучше на свернутой сыворотке или глицериновом агаре при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H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6,4 – 6,8. Колонии серовато – белого цвета, прозрачные с влажной поверхностью, слизистой консистенции. На бульоне растут с помутнением или осадком на дне, на картофельной среде дают пышный рост, образуя прозрачный медообразный  налет янтарно – коричневого цвета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360" y="1447560"/>
            <a:ext cx="2971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c9e1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2360" y="2547720"/>
            <a:ext cx="29718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Рисунок 8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9718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Устойчивость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Нестойкий микроб;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в высушенном виде погибает в 8—14 дней. Во влажных помещениях сохраняет жизнеспособность до тридцати дней, кипячение убивает его моментально; при температуре 70° гибнет в течение 0,5—1 часа. Дезинфицирующие вещества — креолин, лизол, карболовая кислота, известковое молоко в средних концентрациях (3-5%) - убивают его в несколько минут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Патогенность –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апом болеют лошади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слы и муллы. Описаны случаи заболевания сапом хищных животных: льва, барсука, леопарда, барса, рыси, степной кошки. Также сапом болеют и люди. Крупный рогатый скот, овцы, козы, птицы сапом не болеют.  Болезнь протекает у лошадей в хронической и острой формах, по локализации сап подразделяют на легочный, носовой и кожный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50920" y="18864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Легочный сап.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Развивается очень медленно и часто протекает незамеченным. Болезнь затягивается на месяцы и даже годы. Первые признаки болезни состоят в периодическом подъеме температуры тела, особенно в вечерние часы. Постепенно развивается общая слабость, которая сопровождается понижением работоспособности, быстрой утомляемостью, одышкой, нарастающим исхуданием. Появляется кашель, иногда в легких прослушиваются хрипы. Все это приводит к общему упадку сил и кончается смертью.</a:t>
            </a:r>
            <a:br>
              <a:rPr sz="1700"/>
            </a:br>
            <a:br>
              <a:rPr sz="17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осовой сап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Начинается умеренным покраснением слизистой оболочки носовой полости, из одной или обеих ноздрей появляется слизистое беловато- или серовато-желтое истечение (иногда с примесью крови), которое засыхает корочками вокруг крыльев носа и затрудняет дыхание. На слизистой оболочке носовой перегородки с одной или обеих сторон видны очень мелкие сапные узелки (бугорки) серовато-желтого цвета. Сапные узелки постепенно распадаются и превращаются в язвы с острыми неровными краями (рис. 152) и желтым саловидным дном. Отдельные язвы могут сливаться вместе и вызывать прободение носовой перегородки. Заживление сапных язв происходит очень медленно, и на их месте образуются звездчатые рубцы. Осматривать носовую полость лошади на сап следует всегда с рефлектором. При хронической форме сапа подчелюстные лимфатические узлы резко увеличиваются в объеме (до куриного яйца и больше), становятся плотными, бугристыми, малоподвижными, на ощупь холодными и неболезпенными; нагноения их не бывает.</a:t>
            </a:r>
            <a:br>
              <a:rPr sz="1700"/>
            </a:br>
            <a:br>
              <a:rPr sz="17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Кожный сап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 ходу воспаленных лимфатических сосудов в коже или под кожей образуются сапные узлы, которые разрушаются (без нагноения) и образуют глубокие язвы с саловидным дном. Чаще всего поражаются задние конечности. В результате длительного течения болезни происходит значительное утолщение больной ноги - слоновость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сапные узелки и язвы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260280"/>
            <a:ext cx="5905440" cy="5047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ажение кожи головы при сап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Объект 5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62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62160" y="188640"/>
            <a:ext cx="50022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САП ЧЕЛОВЕКА </a:t>
            </a:r>
            <a:br>
              <a:rPr sz="1600"/>
            </a:b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Человек обычно заражается при соприкосновении с больными животными, их трупами, шерстью, фуражом, подстилкой, загрязненными выделениями. Возбудитель проникает в организм через микротравмы на коже и слизистых или через рот посредством загрязненных возбудителем рук, а также аспирационным путем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Естественная восприимчивость людей невысокая, заболевание возникает в основном на фоне нарушения иммунного статуса организма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Обычно заражения носят профессиональный характер: болеют работники животноводства, лица, связанные с уходом за лошадьми, ослами, мулами, ветеринарные специалисты. Известны случаи внутри лабораторного заражения воздушно-пылевым путем. </a:t>
            </a:r>
            <a:br>
              <a:rPr sz="1500"/>
            </a:b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Инкубационный период </a:t>
            </a: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длится 1 - 5 дней, иногда может затягиваться до 14 дней. </a:t>
            </a:r>
            <a:br>
              <a:rPr sz="1500"/>
            </a:br>
            <a:br>
              <a:rPr sz="1500"/>
            </a:b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Основные клинические признаки</a:t>
            </a: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: острое начало заболевания. Отмечаются озноб, головная боль, мышечные и суставные боли. На месте внедрения возбудителя образуется покраснение, быстро переходящее в язву. Затем возникают абсцессы в легких, мягких тканях. Характерны лихорадка, падение артериального давления. Острая форма длится 7 - 14 дней. Возможно хроническое течение </a:t>
            </a:r>
            <a:r>
              <a:rPr b="1" lang="ru-RU" sz="1500" spc="-1" strike="noStrike">
                <a:solidFill>
                  <a:srgbClr val="ffffff"/>
                </a:solidFill>
                <a:latin typeface="Arial Narrow"/>
              </a:rPr>
              <a:t>сапа</a:t>
            </a:r>
            <a:r>
              <a:rPr b="0" lang="ru-RU" sz="1500" spc="-1" strike="noStrike">
                <a:solidFill>
                  <a:srgbClr val="ffffff"/>
                </a:solidFill>
                <a:latin typeface="Arial Narrow"/>
              </a:rPr>
              <a:t> с лихорадкой, множественными язвами, гнойными процессами во внутренних органах.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0" name="Рисунок 9" descr=""/>
          <p:cNvPicPr/>
          <p:nvPr/>
        </p:nvPicPr>
        <p:blipFill>
          <a:blip r:embed="rId1"/>
          <a:stretch/>
        </p:blipFill>
        <p:spPr>
          <a:xfrm>
            <a:off x="344520" y="404640"/>
            <a:ext cx="3527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ап распознают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выявлением клинических признаков болезни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применением маллеиновой пробы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исследованием сыворотки крови методом реакции связывания комплемента (РСК) для выявления активных форм сапа.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зная маллеинизац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ключается в нанесении 2-3 капель маллеина пипеткой на неизмененную конъюнктиву глаза. Реакцию учитывают через 3-6-9-12 и 24 час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ительная реакция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краснение и набухание конъюнктивы глаза, слезотечение и выделение гноя (в виде шнура) из внутреннего угла глаз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мнительная реакция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краснение конъюнктивы, припухлость и слезотечение, без образования гноя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ицательная реакция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изистая оболочка глаз остается без изменени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омнительной реакции глазную пробу повторяют на 5 - 6-й день в тот же глаз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петка для введения в глаз маллеина должна быть стерильной. Маллеинизацию следует проводить рано утром и в течение дня следить за реакцией. До окончания реакции лошадей не кормят и не поят. Лошадь ставят на развязке головой к проходу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кожную маллеинизацию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одят так же, как и туберкулинизацию, в том же порядке учитывают реакцию. Подкожную маллеинизацию проводят в ветеринарной лечебнице под непосредственным наблюдением ветеринарного врач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6:14:25Z</dcterms:created>
  <dc:creator>080811</dc:creator>
  <dc:description/>
  <dc:language>en-US</dc:language>
  <cp:lastModifiedBy>080811</cp:lastModifiedBy>
  <dcterms:modified xsi:type="dcterms:W3CDTF">2011-10-16T07:47:11Z</dcterms:modified>
  <cp:revision>9</cp:revision>
  <dc:subject/>
  <dc:title>Сап лошадей</dc:title>
</cp:coreProperties>
</file>